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E122-3C55-4E45-815C-56C6A60CDB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ABBF-3E6A-408E-A809-E730B055BC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51B-1F1C-47B0-9373-267209AF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B92C-ACC0-4CF7-A3A2-67BB3201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C1C-7CB5-4C32-8DA0-EBADD6B8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508-B66E-45D4-9059-8FD3C496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E4EC-48B3-4B5F-9C94-E9F9C1D1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7FC1-FB5D-4BE2-9EE1-D1370716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BA78-4C1D-4EFA-BE6D-E5BC7601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3621-9C88-408D-BBB4-E5D440C9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960D-0D8A-407F-AC9F-4728111F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3270-12B5-4E96-9D6A-1A2DDCB3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ABF2-FB44-4365-A82D-5106A039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866-2D8F-40C8-8036-AFAB3398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E4B3-2834-4188-B8D1-7E596E58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BA97-0E88-41B2-B674-72FEFFD4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D06A-7D1C-4F4C-8CC8-58FA95C8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9C4A-6BBE-4135-9435-91E2793C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881D-7FF2-43F0-9679-231168E5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2CC56-E412-4B48-B303-F6D866CB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ADDD2-5CAB-4F64-97F0-41A32847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03A57-0A34-44B9-8F8C-E0754380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29762-8E34-409C-A17E-2278CADC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B5DFC-48C5-409E-B649-DD4EE8DE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4D29-DE44-40DC-9AA1-42AC7087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DB382-5740-428C-A121-56A697CB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27C0D-4226-48CB-9B6F-47AA56FA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7157A-310A-481C-940E-061EAF04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D4B26-6724-424C-BC66-C638CF87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DB8B9-6320-4D10-B6FE-6BF6B045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4C4D7-C92D-4382-90B7-3A976FE8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1AB73-B554-4BF0-873E-358496DC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CE2DF-AC9F-4905-B11E-B164CF1E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BCE15-55E0-4C0C-8CD2-D3B79156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38DC6-EEAD-4FF0-8F4F-C8C28894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D9AD-AF02-41D7-83E8-08509D3B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6690E-85FE-4B99-9DC8-283776B4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55B61-3768-46A7-8507-7DA6C3AF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2D350-FFA7-4E9C-B58F-2549DCBC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487BF-BD1A-40A9-B861-A3854C3E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4A026-300B-47C4-9932-B6289A2E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FACDB-6B89-4CD8-B2D6-D604EA4D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8A517-D15A-4EA3-8E70-7897BF7D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F8D59-D718-4C00-81E0-83199415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9468F-BD10-404A-9CA9-32770BF1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2F744-7707-411F-8AFA-1925EC13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9B8-E8A1-46E4-9FE7-36FAB76D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3DC52-618D-4D9A-B2C1-85FF43D8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AE455C-837A-4CBF-BD12-49801478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0D7BD3-7F5D-4760-A5B6-988308F1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69074C-03E9-4ED2-89F5-713418DF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305192-6F90-4A66-B88C-142D3DFD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3F50F5-2291-42AB-A27E-114626E1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9A4F7D-783A-4C21-8BE6-1BC06036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CDF04F-7970-4F58-97FA-D63894ED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D87DE1-22E4-4C9F-A980-4EAD47FE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251771-EE8F-4843-8B59-07C3F43C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DED-A230-45CE-96D4-39D51C86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15B1D-3FE9-4CCE-89E5-31DB6498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A2C199-5126-4EED-88D9-E0B4000B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11A575-3681-40CF-99B2-D71D882D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F6BEFF-DE3F-4D8D-91E0-78252684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E379C7-8A6D-45C4-AACF-3ECA41AE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5AC42F-FBAF-43A8-941F-EF8FE431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B9609-D96C-482D-AC5B-5997F1C2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A01F3E-8953-405A-94A3-B508BF83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29400D-0EAE-4E18-A4E0-82D37824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9BE65D-D686-44B0-B034-D56688B3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F93-7BC9-45E4-8791-6CC29C3F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4547AE-E019-4DC9-875B-77351526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DDCB1-CFD9-46BF-9EEE-5E2B7474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25A91-B0FB-4ED0-BC41-7ECCB0FE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3CF8FA-BE5D-435A-973F-319BE3A2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916DBB-35F8-49A4-9D65-52572ECB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36263D-8DFF-49BB-9D9E-51C19650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18B25D-F7A1-4EF3-A029-04A81325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DDC477-9718-4324-A6D6-EC2BC8D2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075DA6-43CA-43DF-8CD3-A28D8FD5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4DBCDA-5E51-460E-A19B-8476AFFD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F91-1B76-41A2-9F1F-237FC4E0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2794AC-512B-4B2D-A9F2-5C45AA17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6FCB25-80E6-42E3-8D0C-16EEBF23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CFCF9F-772D-40FA-AA1E-B0E6EFA5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51CCA2-EDF8-409C-8063-4027C3DE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259FC8-B268-41E1-9FB6-1E24350C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12D6-B52E-4F8F-AA71-7ADF3171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4686-1F44-48A2-9F06-2374F31D06E2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D495-9AF4-48CE-910B-862AD74DF88D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8539-BB45-4B6B-B792-73763C3652E2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DD26-0124-4431-894E-BCD6C14F10C8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9C98-9321-4110-BC8D-73F6AE55E7B4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9B57-FE1B-47F5-AD39-19BFEE30CAE2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40AD-E9CA-4313-B605-E4850142E0A4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500" spc="-1" strike="noStrike">
                <a:solidFill>
                  <a:srgbClr val="575f6d"/>
                </a:solidFill>
                <a:latin typeface="Century Schoolbook"/>
              </a:rPr>
              <a:t>RULES +  LAWS</a:t>
            </a:r>
            <a:r>
              <a:rPr b="1" lang="en-A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071800" y="3643200"/>
            <a:ext cx="64008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entury Schoolbook"/>
              </a:rPr>
              <a:t>Bylaws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entury Schoolbook"/>
              </a:rPr>
              <a:t>Queen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entury Schoolbook"/>
              </a:rPr>
              <a:t>Governmen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entury Schoolbook"/>
              </a:rPr>
              <a:t>Minister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42720" y="7138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b0f0"/>
                </a:solidFill>
                <a:latin typeface="Century Schoolbook"/>
              </a:rPr>
              <a:t>BY LAW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2142720" y="3928680"/>
            <a:ext cx="70009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entury Schoolbook"/>
              </a:rPr>
              <a:t>A by law is a local government rule of regulation. the cancel   by law stated that all domestic dogs were to be registered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entury Schoolbook"/>
              </a:rPr>
              <a:t>Menu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575f6d"/>
                </a:solidFill>
                <a:latin typeface="Century Schoolbook"/>
              </a:rPr>
              <a:t>QUEEN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The queen is  Australia’s head leader  since 1973 the queen’s formal Australian title has been Elisabeth  the second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575f6d"/>
                </a:solidFill>
                <a:latin typeface="Century Schoolbook"/>
              </a:rPr>
              <a:t>GOVERNM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entury Schoolbook"/>
              </a:rPr>
              <a:t>Government is the form or system    by a county or a state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575f6d"/>
                </a:solidFill>
                <a:latin typeface="Century Schoolbook"/>
              </a:rPr>
              <a:t>MINISTER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22:38:26Z</dcterms:created>
  <dc:creator>Education</dc:creator>
  <dc:description/>
  <dc:language>en-US</dc:language>
  <cp:lastModifiedBy>Education</cp:lastModifiedBy>
  <dcterms:modified xsi:type="dcterms:W3CDTF">2009-10-15T23:17:43Z</dcterms:modified>
  <cp:revision>4</cp:revision>
  <dc:subject/>
  <dc:title>Rules +  laws</dc:title>
</cp:coreProperties>
</file>